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FF8-6BEA-436E-BF75-8558C5EB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585-6EAB-4F36-9A6D-B395DCB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53A-5B64-4E9E-BCB3-C6414FFF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16D-2354-4DBD-9281-F9EDAEF1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E01C-2C0B-48BA-8395-F3F9C0CE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A2AB-5881-4954-9538-88457B99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42F3-0346-4737-888A-A8FEBA15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44F0-1D26-4370-9CBB-1561B2CF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7D0E-5E67-4DCF-B06A-6DAF872B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D773-92B8-478C-9C2D-41F53EEA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9BEB-C2D0-410B-9EC7-6A2BDAF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876-464C-451A-A94E-AE98199C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A465-1308-45E8-8B73-67970341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025F-3FEE-4C41-B0B1-43AD3717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2005-6CAF-415C-9C4B-01AE81DB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47AD-DDD6-48CA-B3C6-CA1F45C3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4F24-D678-4441-A10E-C28D61FD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142-2EAB-422A-8DC7-150C2123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436-DBAF-488A-9694-CD14C418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62B-6422-487B-B672-8043A5E8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400-EBD9-4F1B-A35D-DA0AA49F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5A3-96A2-4A15-8308-55431AA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324-DC2E-46D6-AD96-EE57C3D6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179-F4EC-4826-9F6F-64A5A6B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C21A-77D1-4F8E-9C12-B801EA29A61D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4727-DFD9-4E04-8AD9-59796AE8B639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t.wikipedia.org/wiki/Terra" TargetMode="External"/><Relationship Id="rId2" Type="http://schemas.openxmlformats.org/officeDocument/2006/relationships/hyperlink" Target="http://pt.wikipedia.org/wiki/Espa&#231;o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Rota&#231;&#227;o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Transla&#231;&#227;o_da_Terra" TargetMode="External"/><Relationship Id="rId2" Type="http://schemas.openxmlformats.org/officeDocument/2006/relationships/hyperlink" Target="http://pt.wikipedia.org/wiki/So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Old English Text MT"/>
              </a:rPr>
              <a:t>ESCOLA ESTADUAL SENADOR FILINTO MÜLLER EXTENSÃO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Old English Text MT"/>
              </a:rPr>
              <a:t>JACKSON E AMAND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OS MOVIMENTOS DA TER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c00"/>
                </a:solidFill>
                <a:latin typeface="Chiller"/>
              </a:rPr>
              <a:t>Os </a:t>
            </a:r>
            <a:r>
              <a:rPr b="1" lang="pt-PT" sz="3200" spc="-1" strike="noStrike">
                <a:solidFill>
                  <a:srgbClr val="ffcc00"/>
                </a:solidFill>
                <a:latin typeface="Chiller"/>
              </a:rPr>
              <a:t>movimentos da </a:t>
            </a:r>
            <a:r>
              <a:rPr b="0" lang="pt-PT" sz="3200" spc="-1" strike="noStrike" u="sng">
                <a:solidFill>
                  <a:srgbClr val="ff3399"/>
                </a:solidFill>
                <a:uFillTx/>
                <a:latin typeface="Chiller"/>
                <a:hlinkClick r:id="rId1"/>
              </a:rPr>
              <a:t>Terra</a:t>
            </a:r>
            <a:r>
              <a:rPr b="0" lang="pt-PT" sz="3200" spc="-1" strike="noStrike">
                <a:solidFill>
                  <a:srgbClr val="ffcc00"/>
                </a:solidFill>
                <a:latin typeface="Chiller"/>
              </a:rPr>
              <a:t> são os movimentos simultâneos realizados pela Terra no </a:t>
            </a:r>
            <a:r>
              <a:rPr b="0" lang="pt-PT" sz="3200" spc="-1" strike="noStrike" u="sng">
                <a:solidFill>
                  <a:srgbClr val="ff3399"/>
                </a:solidFill>
                <a:uFillTx/>
                <a:latin typeface="Chiller"/>
                <a:hlinkClick r:id="rId2"/>
              </a:rPr>
              <a:t>espaço</a:t>
            </a:r>
            <a:r>
              <a:rPr b="0" lang="pt-PT" sz="3200" spc="-1" strike="noStrike">
                <a:solidFill>
                  <a:srgbClr val="ffcc00"/>
                </a:solidFill>
                <a:latin typeface="Chiller"/>
              </a:rPr>
              <a:t>. Existem ao todo cinco movimentos principai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agneto"/>
              </a:rPr>
              <a:t>ROTAÇÃ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ff3399"/>
                </a:solidFill>
                <a:uFillTx/>
                <a:latin typeface="Magneto"/>
                <a:hlinkClick r:id="rId1"/>
              </a:rPr>
              <a:t>Rotação</a:t>
            </a:r>
            <a:r>
              <a:rPr b="0" lang="pt-PT" sz="2800" spc="-1" strike="noStrike">
                <a:solidFill>
                  <a:srgbClr val="ffcc00"/>
                </a:solidFill>
                <a:latin typeface="Magneto"/>
              </a:rPr>
              <a:t> - A Terra gira em torno de si mesma, em torno de seu eixo imaginário. A duração da rotação é de 24 hora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TRANSLAÇÃ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ff3399"/>
                </a:solidFill>
                <a:uFillTx/>
                <a:latin typeface="Blackadder ITC"/>
                <a:hlinkClick r:id="rId1"/>
              </a:rPr>
              <a:t>Translação</a:t>
            </a:r>
            <a:r>
              <a:rPr b="0" lang="pt-PT" sz="3200" spc="-1" strike="noStrike">
                <a:solidFill>
                  <a:srgbClr val="ffcc00"/>
                </a:solidFill>
                <a:latin typeface="Blackadder ITC"/>
              </a:rPr>
              <a:t> - é o movimento que a Terra executa ao redor do </a:t>
            </a:r>
            <a:r>
              <a:rPr b="0" lang="pt-PT" sz="3200" spc="-1" strike="noStrike" u="sng">
                <a:solidFill>
                  <a:srgbClr val="ff3399"/>
                </a:solidFill>
                <a:uFillTx/>
                <a:latin typeface="Blackadder ITC"/>
                <a:hlinkClick r:id="rId2"/>
              </a:rPr>
              <a:t>Sol</a:t>
            </a:r>
            <a:r>
              <a:rPr b="0" lang="pt-PT" sz="3200" spc="-1" strike="noStrike">
                <a:solidFill>
                  <a:srgbClr val="ffcc00"/>
                </a:solidFill>
                <a:latin typeface="Blackadder ITC"/>
              </a:rPr>
              <a:t>; leva um tempo total aproximado de 365 dias e 6 horas até que</a:t>
            </a:r>
            <a:r>
              <a:rPr b="0" lang="pt-PT" sz="3200" spc="-1" strike="noStrike">
                <a:solidFill>
                  <a:srgbClr val="ffcc00"/>
                </a:solidFill>
                <a:latin typeface="Wide Latin"/>
              </a:rPr>
              <a:t> se complete um 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8:25:09Z</dcterms:created>
  <dc:creator>aluno</dc:creator>
  <dc:description/>
  <dc:language>en-US</dc:language>
  <cp:lastModifiedBy>aluno</cp:lastModifiedBy>
  <dcterms:modified xsi:type="dcterms:W3CDTF">2010-08-25T19:27:42Z</dcterms:modified>
  <cp:revision>3</cp:revision>
  <dc:subject/>
  <dc:title>ESCOLA ESTADUAL SENADOR FILINTO MÜLLER EXTENSÃO</dc:title>
</cp:coreProperties>
</file>